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2022-BDD8-4EB2-AEB6-1983CE01A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2615-285F-438A-B844-D30690999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EBB5-11C7-4B79-9CF7-BCE58397F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77C9-3418-4969-BECE-6C3E02F6E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176C-4910-4975-81AC-F0F1D1D4F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C8F8-2FAC-403F-8530-F77A78149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8208-C135-4AF2-8E6E-C93E8F8F9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01C9-C9B7-4E5A-BA48-80C398AC4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211F-83D1-4A3E-925A-14219D260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2FB7-9DD3-40BC-865A-A4C5F7F66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75EB-148A-452A-B51C-70B80A211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FD48-376F-48CA-8E53-351F0F551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FE376-09B6-4D82-A89F-F6D22650A45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BC49F-B501-479E-9965-C93C84A254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3. HÀM NHIỀU BIẾ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52280" y="1219320"/>
            <a:ext cx="8763120" cy="52056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fefefe"/>
              </a:gs>
              <a:gs pos="100000">
                <a:srgbClr val="00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MỘT SỐ KHÁI NIỆM CƠ BẢ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6320" y="1724760"/>
            <a:ext cx="883908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Không gian n chiều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ột bộ gồm n số thực được sắp xếp thứ tự, ký hiệu 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…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, i = 1,.. n) được gọi là một điểm n - chiều. Tập hợp các điểm n - chiều được ký hiệu là 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{x = 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…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: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, i = 1,.. n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ong đó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à toạ độ thứ i của điểm 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C65A-B818-42E5-82E7-F86B4F1A1C41}" type="slidenum">
              <a:t>1</a:t>
            </a:fld>
          </a:p>
        </p:txBody>
      </p:sp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3. HÀM NHIỀU BIẾ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17144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ạo hàm riêng cấp cao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 hàm số f(x,y). Các đạo hàm riêng f’x, f’y được gọi là những đạo hàm riêng cấp 1. Các đạo hàm riêng của đạo hàm riêng cấp 1 nếu tồn tại được gọi là đạo hàm riêng cấp 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291960" y="3103560"/>
                <a:ext cx="369576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f</m:t>
                        </m:r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x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''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357800" y="3090960"/>
                <a:ext cx="3844800" cy="102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y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f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y</m:t>
                        </m:r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yx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''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279360" y="4194000"/>
                <a:ext cx="384660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f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  <m:r>
                          <m:t xml:space="preserve">∂</m:t>
                        </m:r>
                        <m:r>
                          <m:t xml:space="preserve">y</m:t>
                        </m:r>
                      </m:den>
                    </m:f>
                    <m:r>
                      <m:t xml:space="preserve">=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''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4449600" y="4194000"/>
                <a:ext cx="383544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y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f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y</m:t>
                        </m:r>
                        <m:r>
                          <m:t xml:space="preserve">∂</m:t>
                        </m:r>
                        <m:r>
                          <m:t xml:space="preserve">y</m:t>
                        </m:r>
                      </m:den>
                    </m:f>
                    <m:r>
                      <m:t xml:space="preserve">=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yy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''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8" name=""/>
          <p:cNvSpPr/>
          <p:nvPr/>
        </p:nvSpPr>
        <p:spPr>
          <a:xfrm>
            <a:off x="0" y="53474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ương tự, ta có định nghĩa đạo hàm riêng cấp 3,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E206-7AB6-4ACA-9D64-DD1C2DEC48FB}" type="slidenum">
              <a:t>10</a:t>
            </a:fld>
          </a:p>
        </p:txBody>
      </p:sp>
    </p:spTree>
  </p:cSld>
  <p:transition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3. HÀM NHIỀU BIẾ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361280" y="5319000"/>
            <a:ext cx="109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320" y="1158120"/>
            <a:ext cx="8915400" cy="24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lý (Schwarz)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ếu trong lân cận nào đó của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àm số f(x,y) tồn tại các đạo hàm riêng và liên tục tại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ì 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x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y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ại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Định lý này cũng đúng cho các đạo hàm riêng cấp cao hơn của n biến số (n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807000" y="2818800"/>
            <a:ext cx="109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B3B5-7F2D-4E4D-8880-0A9058B781AD}" type="slidenum">
              <a:t>11</a:t>
            </a:fld>
          </a:p>
        </p:txBody>
      </p:sp>
    </p:spTree>
  </p:cSld>
  <p:transition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3. HÀM NHIỀU BIẾ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141920"/>
            <a:ext cx="9144000" cy="18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ạo hàm của hàm hợp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ếu hàm z = f(u,v) là các hàm số khả vi của u,v và các hàm số u = u(x,y), v = v(x,y) có các đạo hàm riêng 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ì tồn tại các đạo hàm riê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1163520" y="3220920"/>
                <a:ext cx="2762280" cy="8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z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f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u</m:t>
                        </m:r>
                      </m:den>
                    </m:f>
                    <m:f>
                      <m:num>
                        <m:r>
                          <m:t xml:space="preserve">∂</m:t>
                        </m:r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f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v</m:t>
                        </m:r>
                      </m:den>
                    </m:f>
                    <m:f>
                      <m:num>
                        <m:r>
                          <m:t xml:space="preserve">∂</m:t>
                        </m:r>
                        <m:r>
                          <m:t xml:space="preserve">v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768920" y="3220920"/>
                <a:ext cx="276840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z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y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f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u</m:t>
                        </m:r>
                      </m:den>
                    </m:f>
                    <m:f>
                      <m:num>
                        <m:r>
                          <m:t xml:space="preserve">∂</m:t>
                        </m:r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y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f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v</m:t>
                        </m:r>
                      </m:den>
                    </m:f>
                    <m:f>
                      <m:num>
                        <m:r>
                          <m:t xml:space="preserve">∂</m:t>
                        </m:r>
                        <m:r>
                          <m:t xml:space="preserve">v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3807000" y="2818800"/>
            <a:ext cx="109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01880" y="4419000"/>
            <a:ext cx="610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ính z = 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v, u = xy, v = x/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BD82-3716-4E1E-850E-81D0F9005DB8}" type="slidenum">
              <a:t>12</a:t>
            </a:fld>
          </a:p>
        </p:txBody>
      </p:sp>
    </p:spTree>
  </p:cSld>
  <p:transition>
    <p:cover dir="u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3. HÀM NHIỀU BIẾ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437600" y="5072760"/>
            <a:ext cx="109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52280" y="1211400"/>
            <a:ext cx="8763120" cy="52056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fefefe"/>
              </a:gs>
              <a:gs pos="100000">
                <a:srgbClr val="00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ĐẠO HÀM HÀM Ẩ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1824120"/>
            <a:ext cx="9144000" cy="20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nghĩa hàm số ẩn 1 biế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o phương trìn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(x,y) = 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ếu tồn tại hàm y = f(x) sao cho F(x,f(x)) = 0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A,B) thì f được gọi là hàm số ẩn từ phương trình F(x,y) = 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39618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xy – 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0113-8B77-4CAB-8E79-220B3033D86F}" type="slidenum">
              <a:t>13</a:t>
            </a:fld>
          </a:p>
        </p:txBody>
      </p:sp>
    </p:spTree>
  </p:cSld>
  <p:transition>
    <p:cover dir="ld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3. HÀM NHIỀU BIẾ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437600" y="5195160"/>
            <a:ext cx="10951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2440" y="1158120"/>
            <a:ext cx="549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ạo hàm của hàm số ẩn 1 biế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749160" y="1758960"/>
                <a:ext cx="124488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'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9" name=""/>
          <p:cNvSpPr/>
          <p:nvPr/>
        </p:nvSpPr>
        <p:spPr>
          <a:xfrm>
            <a:off x="109080" y="2890440"/>
            <a:ext cx="5153760" cy="15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ính y’ nế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(x,y) =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3axy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(x,y) = xy – 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D8E8-ED9C-49CA-806C-B7BB609555E7}" type="slidenum">
              <a:t>14</a:t>
            </a:fld>
          </a:p>
        </p:txBody>
      </p:sp>
    </p:spTree>
  </p:cSld>
  <p:transition>
    <p:cover dir="lu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3. HÀM NHIỀU BIẾ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6320" y="1219320"/>
            <a:ext cx="8839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nghĩa hàm số ẩn 2 biế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o phương trình F(x,y,z) = 0. Nếu tồn tại hàm số hai biến z = f(x,y) sao cho F(x,y,z) = 0, với mọi x, y thuộc miền xác định của f, thì f gọi là hàm ẩn từ phương trình F(x,y,z) = 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2440" y="3091680"/>
            <a:ext cx="549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ạo hàm của hàm số ẩn 2 biế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62040" y="3763800"/>
                <a:ext cx="1414440" cy="92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z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2568600" y="3695760"/>
                <a:ext cx="140004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z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y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5" name=""/>
          <p:cNvSpPr/>
          <p:nvPr/>
        </p:nvSpPr>
        <p:spPr>
          <a:xfrm>
            <a:off x="3948120" y="3531600"/>
            <a:ext cx="109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1800" y="4860720"/>
            <a:ext cx="6196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ính 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ếu xyz = cos(x+y+z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C3AD-662C-4A67-BB62-1CE597057600}" type="slidenum">
              <a:t>15</a:t>
            </a:fld>
          </a:p>
        </p:txBody>
      </p:sp>
    </p:spTree>
  </p:cSld>
  <p:transition>
    <p:cover dir="rd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3. HÀM NHIỀU BIẾ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437600" y="5195160"/>
            <a:ext cx="10951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52280" y="1187280"/>
            <a:ext cx="8763120" cy="52056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fefefe"/>
              </a:gs>
              <a:gs pos="100000">
                <a:srgbClr val="00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CỰC TR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320" y="1691280"/>
            <a:ext cx="9067680" cy="24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ực trị tự d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nghĩa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àm số f(x,y) đạt cực đại (cực tiểu) tại điểm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nếu tồn tại một lân cậ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ủa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ao cho f(M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f(M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. F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gọi chung là cực tr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6840" y="4037760"/>
            <a:ext cx="658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ìm cực trị của hàm số z =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320" y="4511160"/>
            <a:ext cx="9144000" cy="14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iều kiện cần để có cực trị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ếu f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là cực trị của f và f có đạo hàm riêng tại 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thì: f’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= 0, f’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5057-6F69-4838-982B-A3AADC3423C8}" type="slidenum">
              <a:t>16</a:t>
            </a:fld>
          </a:p>
        </p:txBody>
      </p:sp>
    </p:spTree>
  </p:cSld>
  <p:transition>
    <p:cover dir="ru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3. HÀM NHIỀU BIẾ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361280" y="5419080"/>
            <a:ext cx="109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1113120"/>
            <a:ext cx="90676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iều kiện đủ của cực trị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o hàm số z = f(x,y). Tại những điểm thỏa 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0, ta gọi định thức Hessia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533376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ìm cực trị hàm số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 =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4x – 2y + 8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 =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29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2705040" y="2162160"/>
                <a:ext cx="217188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H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xx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xy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yx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yy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9" name=""/>
          <p:cNvSpPr/>
          <p:nvPr/>
        </p:nvSpPr>
        <p:spPr>
          <a:xfrm>
            <a:off x="0" y="3504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Đặ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29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866880" y="3305160"/>
                <a:ext cx="401004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x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sub>
                    </m:sSub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xx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xy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yx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yy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2" name=""/>
          <p:cNvSpPr/>
          <p:nvPr/>
        </p:nvSpPr>
        <p:spPr>
          <a:xfrm>
            <a:off x="0" y="4328280"/>
            <a:ext cx="914400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ếu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|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&gt;0, |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&gt;0: z đạt cực tiể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ếu |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&lt;0, |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&gt;0: z đạt cực đạ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B30E-5446-43E3-9B15-D1EB6EB37D18}" type="slidenum">
              <a:t>17</a:t>
            </a:fld>
          </a:p>
        </p:txBody>
      </p:sp>
    </p:spTree>
  </p:cSld>
  <p:transition>
    <p:dissolve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3. HÀM NHIỀU BIẾ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1080000"/>
            <a:ext cx="9067680" cy="20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iều kiện đủ của cực trị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o hàm số y = f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. Tại những điểm thỏa 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x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x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…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x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, giả sử tại đó tồn tại các đạo hàm riêng cấp 2, đặ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 có định thức Hessia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29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29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5867280" y="2057400"/>
                <a:ext cx="124776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9" name=""/>
          <p:cNvSpPr/>
          <p:nvPr/>
        </p:nvSpPr>
        <p:spPr>
          <a:xfrm>
            <a:off x="0" y="24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914400" y="2590920"/>
                <a:ext cx="7429680" cy="205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</m:e>
                    </m:d>
                    <m:r>
                      <m:t xml:space="preserve">,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1" name=""/>
          <p:cNvSpPr/>
          <p:nvPr/>
        </p:nvSpPr>
        <p:spPr>
          <a:xfrm>
            <a:off x="0" y="4587120"/>
            <a:ext cx="9144000" cy="11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ếu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|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&gt;0, |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&gt;0,… |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&gt;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z đạt cực tiể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ếu |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&lt;0, |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&gt;0,… (-1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&gt;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z đạt cực đạ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5804640"/>
            <a:ext cx="90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ìm cực trị hàm số y =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2z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3x - 2y – 4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0D5E-9DBC-40AD-A5B6-0A258698C0A4}" type="slidenum">
              <a:t>18</a:t>
            </a:fld>
          </a:p>
        </p:txBody>
      </p:sp>
    </p:spTree>
  </p:cSld>
  <p:transition>
    <p:fade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3. HÀM NHIỀU BIẾ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1142640"/>
            <a:ext cx="883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ực trị có điều kiệ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nghĩa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ực trị của hàm số z = f(x,y) với điều kiện g(x,y) = c gọi là cực trị có điều kiệ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2755800" y="3886200"/>
                <a:ext cx="2984760" cy="16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λg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λg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6" name=""/>
          <p:cNvSpPr/>
          <p:nvPr/>
        </p:nvSpPr>
        <p:spPr>
          <a:xfrm>
            <a:off x="0" y="5530680"/>
            <a:ext cx="914400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à nhân tử Lagrange, điểm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của hệ trên gọi là điểm dừ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455200"/>
            <a:ext cx="8839080" cy="14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lý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ếu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là cực trị có điều kiện trê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Đặt hàm Lagrange: L(x,y,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= f(x,y) +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c-g(x,y)) với g’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g’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không đồng thời bằng 0 thì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ED11-1EBF-4847-901F-BF2C05C0A502}" type="slidenum">
              <a:t>19</a:t>
            </a:fld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3. HÀM NHIỀU BIẾ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113120"/>
            <a:ext cx="914400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Khoảng cách 2 điểm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x = 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…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, y = (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… 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3065400" y="2038320"/>
                <a:ext cx="3259080" cy="100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7" name=""/>
          <p:cNvSpPr/>
          <p:nvPr/>
        </p:nvSpPr>
        <p:spPr>
          <a:xfrm>
            <a:off x="76320" y="3330360"/>
            <a:ext cx="9067680" cy="21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ột số tính chất của 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) d(x,y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0; d(x,y) = 0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x = 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) d(x,y) = d(y,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) d(x,y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(x,z) + d (z,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01B7-4EF3-42CA-8111-4BB514510A85}" type="slidenum">
              <a:t>2</a:t>
            </a:fld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3. HÀM NHIỀU BIẾ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1142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ìm điểm dừng của z(x,y), với điều kiện x + y =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3581280" y="1676520"/>
                <a:ext cx="2413080" cy="58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61" name=""/>
          <p:cNvSpPr/>
          <p:nvPr/>
        </p:nvSpPr>
        <p:spPr>
          <a:xfrm>
            <a:off x="0" y="2194920"/>
            <a:ext cx="914400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ở rộng hàm n biến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àm số f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…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với điều kiện g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…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= c. Hàm Lagrange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L = f + </a:t>
            </a:r>
            <a:r>
              <a:rPr b="0" lang="en-US" sz="2800" spc="-1" strike="noStrike">
                <a:solidFill>
                  <a:srgbClr val="292929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(c-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21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2924280" y="3305160"/>
                <a:ext cx="2790720" cy="26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λg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λg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λg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E2B7-02E0-4381-B885-3FB9FC234721}" type="slidenum">
              <a:t>20</a:t>
            </a:fld>
          </a:p>
        </p:txBody>
      </p:sp>
    </p:spTree>
  </p:cSld>
  <p:transition>
    <p:newsflash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3. HÀM NHIỀU BIẾ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6320" y="1570320"/>
            <a:ext cx="88390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lý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ếu f, g có đạo hàm riêng cấp hai liên tục tại điểm dừng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xét định thức Hessian đó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26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2803680" y="2467080"/>
                <a:ext cx="2936880" cy="164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H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g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g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g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xx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xy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g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yx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yy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8" name=""/>
          <p:cNvSpPr/>
          <p:nvPr/>
        </p:nvSpPr>
        <p:spPr>
          <a:xfrm>
            <a:off x="0" y="4191120"/>
            <a:ext cx="914400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ếu |H|&gt;0: f đạt cực đại có điều kiệ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ếu |H|&lt;0: f đạt cực đại có điều kiệ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5257800"/>
            <a:ext cx="914400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ìm cực trị có điều kiện của hàm số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 = 6 – 4x – 3y với điều kiện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1143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iều kiện đủ để có cực trị có điều kiệ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B69E-B9CF-488A-B3C8-9EFE7635810B}" type="slidenum">
              <a:t>21</a:t>
            </a:fld>
          </a:p>
        </p:txBody>
      </p:sp>
    </p:spTree>
  </p:cSld>
  <p:transition>
    <p:push dir="d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3. HÀM NHIỀU BIẾ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1052640"/>
            <a:ext cx="9144000" cy="15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ở rộng hàm n biến: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Xét hàm số f(x</a:t>
            </a:r>
            <a:r>
              <a:rPr b="0" lang="en-US" sz="2800" spc="-1" strike="noStrike" baseline="-25000">
                <a:solidFill>
                  <a:srgbClr val="292929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,x</a:t>
            </a:r>
            <a:r>
              <a:rPr b="0" lang="en-US" sz="2800" spc="-1" strike="noStrike" baseline="-25000">
                <a:solidFill>
                  <a:srgbClr val="292929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,…x</a:t>
            </a:r>
            <a:r>
              <a:rPr b="0" lang="en-US" sz="2800" spc="-1" strike="noStrike" baseline="-25000">
                <a:solidFill>
                  <a:srgbClr val="292929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) với điều kiện g(x</a:t>
            </a:r>
            <a:r>
              <a:rPr b="0" lang="en-US" sz="2800" spc="-1" strike="noStrike" baseline="-25000">
                <a:solidFill>
                  <a:srgbClr val="292929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,x</a:t>
            </a:r>
            <a:r>
              <a:rPr b="0" lang="en-US" sz="2800" spc="-1" strike="noStrike" baseline="-25000">
                <a:solidFill>
                  <a:srgbClr val="292929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,…x</a:t>
            </a:r>
            <a:r>
              <a:rPr b="0" lang="en-US" sz="2800" spc="-1" strike="noStrike" baseline="-25000">
                <a:solidFill>
                  <a:srgbClr val="292929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) = c. 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àm Lagrange: L = f +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c-g). Xét tại điểm dừng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, ta xét định thức Hessian đó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259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2066760" y="2514600"/>
                <a:ext cx="4486320" cy="259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H</m:t>
                            </m:r>
                          </m:e>
                        </m:acc>
                      </m:e>
                    </m: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g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g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g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g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g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g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6" name=""/>
          <p:cNvSpPr/>
          <p:nvPr/>
        </p:nvSpPr>
        <p:spPr>
          <a:xfrm>
            <a:off x="0" y="5196600"/>
            <a:ext cx="9144000" cy="11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ếu |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&lt;0, |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&lt;0,… |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&lt;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z đạt cực tiể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ếu |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&gt;0, |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&lt;0,… (-1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&gt;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z đạt cực đạ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7C27-A0C5-4BBD-B345-6839F15CD5C3}" type="slidenum">
              <a:t>22</a:t>
            </a:fld>
          </a:p>
        </p:txBody>
      </p:sp>
    </p:spTree>
  </p:cSld>
  <p:transition>
    <p:push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3. HÀM NHIỀU BIẾ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284960" y="5409360"/>
            <a:ext cx="109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320" y="1218960"/>
            <a:ext cx="876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ìm cực trị hàm số u = x – 2y + 2z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ới điều kiện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z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8B79-E5C0-4CE6-9D09-D12667837A6A}" type="slidenum">
              <a:t>23</a:t>
            </a:fld>
          </a:p>
        </p:txBody>
      </p:sp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3. HÀM NHIỀU BIẾ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2989080"/>
            <a:ext cx="8763120" cy="19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iểm biê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Điểm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được gọi là điểm biên của 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ếu mọi lân cận của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đều chứa ít nhất các điểm x, y: 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, y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. Tập hợp mọi điểm biên của D được gọi là biên của 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1083600"/>
            <a:ext cx="876276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ân cậ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o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à số r &gt; 0. Tập S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r) = {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(x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&lt; r} được gọi là một lân cận của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6320" y="2042280"/>
            <a:ext cx="876276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iểm trong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Điểm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được gọi là điểm trong của 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ếu D chứa một lân cận của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487620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ập đóng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ếu biên của D thuộc 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550008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ập mở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ếu biên của D không thuộc 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C718-B5BC-424C-A662-EB1576966617}" type="slidenum">
              <a:t>3</a:t>
            </a:fld>
          </a:p>
        </p:txBody>
      </p:sp>
    </p:spTree>
  </p:cSld>
  <p:transition>
    <p:zoom dir="in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3. HÀM NHIỀU BIẾ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6320" y="114264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àm 2 biế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một ánh xạ f: 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, được gọi là hàm số 2 biến. Ký hiệ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4068720" y="1676520"/>
                <a:ext cx="3094200" cy="41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↦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" name=""/>
          <p:cNvSpPr/>
          <p:nvPr/>
        </p:nvSpPr>
        <p:spPr>
          <a:xfrm>
            <a:off x="76320" y="2068920"/>
            <a:ext cx="8686800" cy="10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: miền xác địn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(D) = {z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: z = f(x,y)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x,y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} gọi là miền giá tr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86840" y="3195360"/>
            <a:ext cx="4272840" cy="15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ìm miền xác địn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 = 2x – 3y +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 = ln(x + y -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4908600" y="3683160"/>
                <a:ext cx="2209680" cy="59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60" name=""/>
          <p:cNvSpPr/>
          <p:nvPr/>
        </p:nvSpPr>
        <p:spPr>
          <a:xfrm>
            <a:off x="76320" y="4844520"/>
            <a:ext cx="883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àm n biế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một ánh xạ f: 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 được gọi là hàm số n biến. Ký hiệ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1504800" y="5829480"/>
                <a:ext cx="523908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↦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BECC-542E-4550-AC5E-B818C2514A48}" type="slidenum">
              <a:t>4</a:t>
            </a:fld>
          </a:p>
        </p:txBody>
      </p:sp>
    </p:spTree>
  </p:cSld>
  <p:transition>
    <p:zoom dir="out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3. HÀM NHIỀU BIẾ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52280" y="1143000"/>
            <a:ext cx="8763120" cy="52056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fefefe"/>
              </a:gs>
              <a:gs pos="100000">
                <a:srgbClr val="00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GIỚI HẠN VÀ TÍNH LIÊN TỤC CỦA HÀM S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1661400"/>
            <a:ext cx="9067680" cy="20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Giới hạn hàm số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o hàm f(x,y) xác định tại lân cận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, có thể  không xác định tại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Số thực L được gọi là giới hạn của f khi M(x,y) tiến đến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, nế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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gt; 0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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&gt; 0: d(M,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&lt;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&gt;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(M) – L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&lt;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1744560" y="3975120"/>
                <a:ext cx="48085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,M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-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y-y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228600" y="4971960"/>
                <a:ext cx="2184480" cy="70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M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lim>
                    </m:limLow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M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2717640" y="4986360"/>
                <a:ext cx="3333960" cy="70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→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lim>
                    </m:limLow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6426360" y="4927680"/>
                <a:ext cx="230472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im</m:t>
                    </m:r>
                    <m:limLow>
                      <m:e>
                        <m:eqArr>
                          <m:e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eqArr>
                      </m:e>
                      <m:lim>
                        <m:r>
                          <m:t xml:space="preserve">y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lim>
                    </m:limLow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9C4F-A922-4611-B2D6-C8358ED72EE4}" type="slidenum">
              <a:t>5</a:t>
            </a:fld>
          </a:p>
        </p:txBody>
      </p:sp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3. HÀM NHIỀU BIẾ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1236600"/>
            <a:ext cx="9067680" cy="18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hái niệm vô hạn cũng được định nghĩa tương tự như đối với hàm số một biế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ác định lý về giới hạn của tổng, tích, thương đối với hàm số một biến cũng đúng cho hàm số nhiều biế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6320" y="3720240"/>
            <a:ext cx="275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5562720" y="3551400"/>
                <a:ext cx="304776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→</m:t>
                        </m:r>
                        <m:r>
                          <m:t xml:space="preserve">(</m:t>
                        </m:r>
                        <m:r>
                          <m:t xml:space="preserve">0,0</m:t>
                        </m:r>
                        <m:r>
                          <m:t xml:space="preserve">)</m:t>
                        </m:r>
                      </m:lim>
                    </m:limLow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219320" y="3492360"/>
                <a:ext cx="353052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→</m:t>
                        </m:r>
                        <m:r>
                          <m:t xml:space="preserve">(</m:t>
                        </m:r>
                        <m:r>
                          <m:t xml:space="preserve">0,0</m:t>
                        </m:r>
                        <m:r>
                          <m:t xml:space="preserve">)</m:t>
                        </m:r>
                      </m:lim>
                    </m:limLow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611A-7FFD-44AA-8798-0C452DA20A55}" type="slidenum">
              <a:t>6</a:t>
            </a:fld>
          </a:p>
        </p:txBody>
      </p:sp>
    </p:spTree>
  </p:cSld>
  <p:transition>
    <p:checker dir="vert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3. HÀM NHIỀU BIẾ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2320" y="1112760"/>
            <a:ext cx="8716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iên tục của hàm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 được gọi là liên tục tại 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nế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2073240" y="1735200"/>
                <a:ext cx="4403880" cy="70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→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lim>
                    </m:limLow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7" name=""/>
          <p:cNvSpPr/>
          <p:nvPr/>
        </p:nvSpPr>
        <p:spPr>
          <a:xfrm>
            <a:off x="0" y="2543040"/>
            <a:ext cx="8847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lý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ếu f(x,y) liên tục trên một tập đóng và bị chặn trên 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ì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ồn tại số M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|f(x,y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≤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 đạt giá trị lớn nhất và nhỏ nhất trên 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44953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ương tự ta có thể định nghĩa giới hạn và sự liên tục của hàm số đối với hàm n biến (n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≥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1285-869E-4766-A6B7-F6FC4B8DC13F}" type="slidenum">
              <a:t>7</a:t>
            </a:fld>
          </a:p>
        </p:txBody>
      </p:sp>
    </p:spTree>
  </p:cSld>
  <p:transition>
    <p:comb dir="horz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3. HÀM NHIỀU BIẾ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52280" y="1219320"/>
            <a:ext cx="8763120" cy="45972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fefefe"/>
              </a:gs>
              <a:gs pos="100000">
                <a:srgbClr val="00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 ĐẠO HÀM RIÊ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740240"/>
            <a:ext cx="8839080" cy="19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nghĩa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o hàm z = f(x,y) xác định trong miền D,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. Nếu cho y = 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à hằng số, hàm số một biến f(x,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có đạo hàm tại x =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được gọi là đạo hàm riêng của f đối với x tại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Ký hiệ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1544760" y="3657600"/>
                <a:ext cx="503388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,  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f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z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3" name=""/>
          <p:cNvSpPr/>
          <p:nvPr/>
        </p:nvSpPr>
        <p:spPr>
          <a:xfrm>
            <a:off x="0" y="4618080"/>
            <a:ext cx="906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Đặ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 = f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, 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-f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: Số gia riêng của f tại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2903400" y="5389560"/>
                <a:ext cx="22021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 f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x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f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123F-A7D5-4A5E-8A47-E89A171F237F}" type="slidenum">
              <a:t>8</a:t>
            </a:fld>
          </a:p>
        </p:txBody>
      </p:sp>
    </p:spTree>
  </p:cSld>
  <p:transition>
    <p:comb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3. HÀM NHIỀU BIẾ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1050480"/>
            <a:ext cx="9067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ương tự ta cũng có định nghĩa đạo hàm riêng của f theo biến 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2830680" y="1620720"/>
                <a:ext cx="2092320" cy="97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y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y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f</m:t>
                        </m:r>
                      </m:num>
                      <m:den>
                        <m:r>
                          <m:t xml:space="preserve">Δ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8" name=""/>
          <p:cNvSpPr/>
          <p:nvPr/>
        </p:nvSpPr>
        <p:spPr>
          <a:xfrm>
            <a:off x="0" y="26665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ương tự ta cũng có đạo hàm riêng đối với hàm n biến số (n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6320" y="3733200"/>
            <a:ext cx="863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ính các đạo hàm riê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1308240" y="4309920"/>
                <a:ext cx="318744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1405080" y="5021280"/>
                <a:ext cx="94428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y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CC53-C22E-4952-BCB8-E3E1F26775B1}" type="slidenum">
              <a:t>9</a:t>
            </a:fld>
          </a:p>
        </p:txBody>
      </p:sp>
    </p:spTree>
  </p:cSld>
  <p:transition>
    <p:cover dir="d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9T13:32:52Z</dcterms:created>
  <dc:creator>Acer</dc:creator>
  <dc:description/>
  <dc:language>en-US</dc:language>
  <cp:lastModifiedBy>m</cp:lastModifiedBy>
  <dcterms:modified xsi:type="dcterms:W3CDTF">2009-11-08T13:28:05Z</dcterms:modified>
  <cp:revision>788</cp:revision>
  <dc:subject/>
  <dc:title>Nguyên lý thống kê</dc:title>
</cp:coreProperties>
</file>